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6E0-27EB-4CAD-93A5-16A5F120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3DF-4A93-4363-93C2-D77B59FF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82E-41D9-4EB8-B1B5-3C5A74B6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41A-35B3-4AC6-B910-010AF32A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D0C9-2236-4432-B48D-35B7088A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8A0A-A377-49F9-A792-AB46797E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B218-FCA9-4289-AC0B-7A529104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DCC4-8190-4C5A-86D2-C2D3D16E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713D-0D0E-4221-8DCA-3A8EF253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F00A-D612-43B2-A613-287DDF6F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1245-27C4-441E-9E4D-BA8D14A6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FC0-15A6-4BF1-B95C-CDCBDD2C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3D35-66D2-4199-B0AB-D55E4559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6C4A-22F5-4C60-B240-7DDA0719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58BC-1991-40BF-957E-D1674604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E5A5-0003-4C37-899D-FB00426E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F64D-28C1-4F18-8CC1-E6903407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919-E7B0-497C-AD28-7CFD9DBA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336-8393-467A-AA14-40A72A86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BC3-BE22-4DF6-8869-A758B437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3A9-1298-4E8D-B9EA-6A3BA4A0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F3C-C19B-436D-9BDC-A6F0A8A0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3CB-3DBC-4849-9AD8-31A4B7C7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E18-4BBC-4337-ADC4-605238A8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4FB4-5313-4D8A-853B-6A6F8A3D8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49A6-9725-4C21-B0AD-758177196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27280" y="404280"/>
            <a:ext cx="40132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d9d9ff"/>
                </a:solidFill>
                <a:uFillTx/>
                <a:latin typeface="Comic Sans MS"/>
              </a:rPr>
              <a:t>Dwy goes, pedair coes.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0920" y="134100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ae Si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ôn yn edrych allan ar y ia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ae’n gweld nifer o fechgyn a chw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ae’n cyfrif 22 pen a 68 co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awl bachgen sydd yn y iar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88000" y="3573360"/>
            <a:ext cx="316872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44:49Z</dcterms:created>
  <dc:creator>Carwyn</dc:creator>
  <dc:description/>
  <dc:language>en-US</dc:language>
  <cp:lastModifiedBy>Carwyn</cp:lastModifiedBy>
  <dcterms:modified xsi:type="dcterms:W3CDTF">2008-12-05T18:55:05Z</dcterms:modified>
  <cp:revision>2</cp:revision>
  <dc:subject/>
  <dc:title>Dwy goes, pedair coes.</dc:title>
</cp:coreProperties>
</file>